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5B6-1347-4A82-80D0-6B9D0603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0335-3A04-42D9-9DBE-0385AEA1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118-FE02-4FA4-8F6D-0606CF65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D0E-D8E0-4FA9-A942-BAA636A3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989D-50F5-4883-8177-EF07AE01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F0F3-5F6C-49DE-B679-D7384755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CB7B-277A-4B7D-8EFC-BCAB393F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E933-BE2B-4F64-AB26-4E28334A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7E0F-4F60-42C1-916E-1D3D1C5D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F3F0-523F-4ADB-89EB-FDDD35B8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9375-C869-43ED-B7BB-56FFBC2F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50A-36DF-47F9-878E-EBEB8D10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9F8C-6542-47FB-A542-F218DBD8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7021-A8E5-43D3-A1C9-96E9E513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FC98-229B-4B19-A679-3A86FCCD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655F-7740-4EBC-985D-A5FF2009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6E9C-49A7-4DD3-B595-39261491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00B8-2986-474A-BBAD-9E732C8F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F9D-01A2-415E-AEAF-271845C9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9A1-3AEA-4312-B5BD-37A7BF4B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11C-FF27-40A5-91CC-F981A00A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4BB-A9C8-4F29-A46A-E359CE05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509-4E68-4BEF-A1EA-94C7E724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AEA-B52B-44D0-9E1A-40D16983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1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27F2-AE59-47F2-97FD-855DC6EA3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9164-4898-424F-963F-EBD51FE4A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130480"/>
            <a:ext cx="583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182880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ing to sustained profitability“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5616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1200" y="3189240"/>
            <a:ext cx="57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rgo Committee Chairma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rlo Franch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MMARY OF THE CHAIRMAN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251424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go Committee:  new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go Committee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ents on the topic of the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418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W CARGO COMMITTEE MEMBER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4674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. Mike Davie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gional Marine Manager and Senior Underwriter for Asia and Pacific of Axa Corporate Marine Division in Sing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. 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ert Nelen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rine Manager for Continental Europe at A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el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. Keith Aul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anager for Development and Underwriting Facultative Marine Portfolio at Munich Reinsurance New Zea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r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on le M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uty Chairman of Joint Cargo Committee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vestock exports - The Australian Experi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Phil Grieve, General Manager Corporate and Technical for Associated Marine Insurers Agents Pty Lt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Melbou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 Packaging and Transport of Radioactive Materials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Trevor Dixon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al Advisor t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rld Nuclear Transport Institute of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uring goods to China? A surveyors practical                              viewpoint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Matthew Fenton, Technical Manager for Charles Taylor Consulting in North East As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Sing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5112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6720" y="347760"/>
            <a:ext cx="48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RGO COMMITT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RGO COMMITTEE 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date of Marine Cargo Insurance to Iraq”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Max Zaccar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airman and General Manager, Commercial Insurance - Beirut, 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mber of the Cargo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  and Terrorism : the  need for insurance in an increasingly risky world”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Andreas Gippert, Senior Underwriter Political Risks  of Inter Hannover - Stockhol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racy and Armed Robbery Against Ships inSouth East Asia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Stephen Foster, Director of Asia Pacific Region for Charles Taylor Consulting - Sing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ing to sustained profitability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6000" y="2514240"/>
            <a:ext cx="75708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ents on the topic of the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82880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ing to sustained profitability“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5616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81200" y="3189240"/>
            <a:ext cx="57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rgo Committee Chairman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rlo Franch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9:35:30Z</dcterms:created>
  <dc:creator>EventCo</dc:creator>
  <dc:description/>
  <dc:language>en-US</dc:language>
  <cp:lastModifiedBy>DGSSU</cp:lastModifiedBy>
  <dcterms:modified xsi:type="dcterms:W3CDTF">2004-09-09T10:30:41Z</dcterms:modified>
  <cp:revision>29</cp:revision>
  <dc:subject/>
  <dc:title>Speaker’s Name Speaker’s Topic Date</dc:title>
</cp:coreProperties>
</file>