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26B-4379-4D24-8E0D-F4AA9273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849-60FC-4501-BED4-D5A4B0EB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8E6-CDD9-4BF2-91BE-AF0874CB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4044-FC54-4BF5-B15A-826D1D90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0BE2-D3C0-479E-9325-16DE72B8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D364-E7C0-40F0-B2F7-5B1BB4C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A221-72E8-4A60-835A-04B2AC0C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8A81-5C42-410A-A0FE-09A0E1EB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55E9-96B7-4E44-9BCF-C4E94EBF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98A4-D3E0-4BFB-A25B-64B7F8A7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2234-D934-4D7B-B4A1-34367E01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857-C55C-41B6-B4BC-FB1478B9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30FE-1B17-43B9-83FE-E78EEBD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A9F8-21A1-4B4C-804C-D40DA57B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8A17-5E48-4E4A-816C-3CC1AABB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38A0-DD9D-450B-BDAE-3DF1CF7D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3E29-D820-4D29-AF88-C4D849EA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08A-61B2-4781-B25B-685AD38C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776-5188-4BE1-BF70-77FB741B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447-0233-4DD3-8BB3-8B8A1947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51B-CAE7-4548-A5AB-22589925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110-5123-4D4D-A2B1-C60BD853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E76-DF57-4F86-AA7B-AE9E6A75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77E-1C93-417E-A8A1-28B52F51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E1CB-C38C-4A3D-9E42-FE39D0D2F4B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1AC3-5478-4A67-9929-88A0C6F4C34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UMI Singapore 2004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AND OFFSHORE COMMITTEE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ick Ho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kins Syndicate, Lloyd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skyblue" descr=""/>
          <p:cNvPicPr/>
          <p:nvPr/>
        </p:nvPicPr>
        <p:blipFill>
          <a:blip r:embed="rId1"/>
          <a:srcRect l="0" t="4585" r="4266" b="0"/>
          <a:stretch/>
        </p:blipFill>
        <p:spPr>
          <a:xfrm>
            <a:off x="5715000" y="6124680"/>
            <a:ext cx="3276720" cy="50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g Utilisation/Lo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236232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5943600"/>
            <a:ext cx="7162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53280" y="2286000"/>
            <a:ext cx="0" cy="36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4343400"/>
            <a:ext cx="22860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4191120"/>
            <a:ext cx="228600" cy="1752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3733920"/>
            <a:ext cx="228600" cy="2209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3352680"/>
            <a:ext cx="228600" cy="2590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2971800"/>
            <a:ext cx="228600" cy="2971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572000"/>
            <a:ext cx="22860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05320" y="5181480"/>
            <a:ext cx="22860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5715000"/>
            <a:ext cx="2286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4343400"/>
            <a:ext cx="22860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9200" y="2666880"/>
            <a:ext cx="228600" cy="3276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4038480"/>
            <a:ext cx="228600" cy="1905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10080" y="2743200"/>
            <a:ext cx="228600" cy="3200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3809880"/>
            <a:ext cx="228600" cy="2133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4343400"/>
            <a:ext cx="22860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3048120"/>
            <a:ext cx="228600" cy="2895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3657600"/>
            <a:ext cx="228600" cy="228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15200" y="2438280"/>
            <a:ext cx="228600" cy="3505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2666880"/>
            <a:ext cx="228600" cy="3276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280" y="35812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5640" y="54100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,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280" y="48006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,6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280" y="41911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,8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0280" y="30160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,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0280" y="24066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,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74400">
            <a:off x="977400" y="6156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9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74400">
            <a:off x="557316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74400">
            <a:off x="633528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74400">
            <a:off x="709704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74400">
            <a:off x="248220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74400">
            <a:off x="328860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74400">
            <a:off x="404928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74400">
            <a:off x="481104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74400">
            <a:off x="1763280" y="61293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n 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153280" y="59436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53280" y="563868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153280" y="53341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153280" y="50292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53280" y="472428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32004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153280" y="35053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153280" y="380988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153280" y="41148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153280" y="44197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90800" y="57769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06640" y="5181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06640" y="4557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22480" y="39625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06640" y="33386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155440" y="220968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S$ m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523880" y="3200040"/>
            <a:ext cx="762120" cy="2438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3200400"/>
            <a:ext cx="76212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4114800"/>
            <a:ext cx="76176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09880" y="4114800"/>
            <a:ext cx="762120" cy="9144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4114800"/>
            <a:ext cx="762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14800"/>
            <a:ext cx="761760" cy="10666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5181480"/>
            <a:ext cx="762120" cy="533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400" y="19051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imes New Roman"/>
              </a:rPr>
              <a:t>No of Ri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74920" y="190512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C.O.W. Lo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86600" y="403848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ff33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31720" y="1819440"/>
            <a:ext cx="602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e Management/Capital Withdraw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atility of Energy Ins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of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UMI Singapore 2004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95280" y="3123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ick Ho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kins Syndicate, Lloyd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skyblue" descr=""/>
          <p:cNvPicPr/>
          <p:nvPr/>
        </p:nvPicPr>
        <p:blipFill>
          <a:blip r:embed="rId1"/>
          <a:srcRect l="0" t="4585" r="4266" b="0"/>
          <a:stretch/>
        </p:blipFill>
        <p:spPr>
          <a:xfrm>
            <a:off x="5715000" y="6124680"/>
            <a:ext cx="3276720" cy="50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ommittee Member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im Burrows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ellington, Lloyd’s, UK (Chairma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ominick Hoare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kins, Lloyd’s, UK (Vice Chairma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avid Cooper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Gard Insurance Services, Nor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Victor Peignet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or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Yujiro Kikuchi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itsui Sumitomo, Jap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rank Costa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A.I.G., U.S.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en Messenger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Zurich, UK (Executive Committee Memb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Neil Smith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loyd’s Market Association, UK (Secretar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Times New Roman"/>
              </a:rPr>
              <a:t>Singapore 2004 Energy and Offshore Workshop Presentation Tuesday 14</a:t>
            </a:r>
            <a:r>
              <a:rPr b="0" lang="en-GB" sz="28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</a:rPr>
              <a:t> September @ 14.30pm Mobile Offshore Drilling Unit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– Dominick Hoare, Watkins, Lloyd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tractor’s View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– Mike O’Reilly, Noble Drilil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ological Chang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– Kevin Jarman, Matthews Dani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verage Issues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– Quentin Prebble, Liberty, Lloyd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Review of Seville 2003 Energy and Offshore Workshop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2209680"/>
            <a:ext cx="8219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 “Loss of Production Income” Wording under review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Joint Rig &amp; Associated Business Committee, Lo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of Practice for Marine Warranty Surveyors released b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Joint Rig &amp; Associated Business Committee, Lo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ic Scope of work for Marine Warranty Surveyors u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by the Joint Rig &amp; Associated Business Committe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iew of Statistics 1996-2004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rofitability of Energy Busines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5320" y="1905120"/>
            <a:ext cx="8226000" cy="3811680"/>
            <a:chOff x="535320" y="1905120"/>
            <a:chExt cx="8226000" cy="3811680"/>
          </a:xfrm>
        </p:grpSpPr>
        <p:sp>
          <p:nvSpPr>
            <p:cNvPr id="113" name=""/>
            <p:cNvSpPr/>
            <p:nvPr/>
          </p:nvSpPr>
          <p:spPr>
            <a:xfrm>
              <a:off x="1371960" y="19051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960" y="5562720"/>
              <a:ext cx="670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77320" y="19051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71960" y="2133720"/>
              <a:ext cx="6705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960" y="2819520"/>
              <a:ext cx="6705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960" y="3505320"/>
              <a:ext cx="6705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960" y="4191120"/>
              <a:ext cx="6705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71960" y="4876920"/>
              <a:ext cx="67053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3623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77320" y="28195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32767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77320" y="37339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77320" y="4191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77320" y="46483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7320" y="51055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77320" y="55627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19320" y="21337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28195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19320" y="35053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9320" y="41911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48769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19320" y="556272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5440" y="19432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9600" y="260532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5320" y="327672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5320" y="397692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920" y="46627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920" y="5348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37520" y="2133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7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31400" y="26053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6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31400" y="30481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5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37520" y="3519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37520" y="39769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31400" y="4419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31400" y="48769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31400" y="5348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525680" y="5576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52480" y="2590920"/>
            <a:ext cx="5715000" cy="2971800"/>
            <a:chOff x="1752480" y="2590920"/>
            <a:chExt cx="5715000" cy="2971800"/>
          </a:xfrm>
        </p:grpSpPr>
        <p:sp>
          <p:nvSpPr>
            <p:cNvPr id="151" name=""/>
            <p:cNvSpPr/>
            <p:nvPr/>
          </p:nvSpPr>
          <p:spPr>
            <a:xfrm>
              <a:off x="1752480" y="4496040"/>
              <a:ext cx="228600" cy="106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4572000"/>
              <a:ext cx="22860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24080" y="4724640"/>
              <a:ext cx="228600" cy="838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09880" y="4648320"/>
              <a:ext cx="228600" cy="914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2590920"/>
              <a:ext cx="228600" cy="297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67280" y="3048120"/>
              <a:ext cx="228600" cy="2514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3810240"/>
              <a:ext cx="228600" cy="1752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95680" y="4114800"/>
              <a:ext cx="228600" cy="144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38880" y="2895840"/>
              <a:ext cx="228600" cy="2666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4496040"/>
              <a:ext cx="228600" cy="106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6432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290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148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006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864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722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716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57400" y="555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828800" y="3580920"/>
            <a:ext cx="5562360" cy="1295640"/>
            <a:chOff x="1828800" y="3580920"/>
            <a:chExt cx="5562360" cy="1295640"/>
          </a:xfrm>
        </p:grpSpPr>
        <p:sp>
          <p:nvSpPr>
            <p:cNvPr id="170" name=""/>
            <p:cNvSpPr/>
            <p:nvPr/>
          </p:nvSpPr>
          <p:spPr>
            <a:xfrm>
              <a:off x="1828800" y="4190760"/>
              <a:ext cx="144756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360" y="4800240"/>
              <a:ext cx="68580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962160" y="4800240"/>
              <a:ext cx="68580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647960" y="4647600"/>
              <a:ext cx="6858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333760" y="3809880"/>
              <a:ext cx="685800" cy="838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019560" y="3580920"/>
              <a:ext cx="68580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5360" y="3581280"/>
              <a:ext cx="6858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828800" y="2438280"/>
            <a:ext cx="5562360" cy="2666880"/>
            <a:chOff x="1828800" y="2438280"/>
            <a:chExt cx="5562360" cy="2666880"/>
          </a:xfrm>
        </p:grpSpPr>
        <p:sp>
          <p:nvSpPr>
            <p:cNvPr id="178" name=""/>
            <p:cNvSpPr/>
            <p:nvPr/>
          </p:nvSpPr>
          <p:spPr>
            <a:xfrm flipV="1">
              <a:off x="1828800" y="2438280"/>
              <a:ext cx="761760" cy="16761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90560" y="2438280"/>
              <a:ext cx="685800" cy="6094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6360" y="3047760"/>
              <a:ext cx="68580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962160" y="2818800"/>
              <a:ext cx="685800" cy="228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7960" y="2819160"/>
              <a:ext cx="685800" cy="198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3760" y="4800240"/>
              <a:ext cx="685800" cy="228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9560" y="5028840"/>
              <a:ext cx="685800" cy="763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705360" y="4876200"/>
              <a:ext cx="685800" cy="228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33520" y="6095880"/>
            <a:ext cx="4572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37880" y="6019920"/>
            <a:ext cx="80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ltimate Premium         Rating Index (as a % of 1996 rates)        Gross Ult Loss Rat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632448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6324480"/>
            <a:ext cx="38088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27600">
            <a:off x="-256680" y="346680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cent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7400" y="6491160"/>
            <a:ext cx="61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s:  Lloyd’s Risk Codes – Offshore Property/Control of W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54720" y="1562040"/>
            <a:ext cx="6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£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76200" y="2819520"/>
            <a:ext cx="45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9640" y="2362320"/>
            <a:ext cx="45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5440" y="2666880"/>
            <a:ext cx="45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turn on Capit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9000" y="1752120"/>
            <a:ext cx="7237080" cy="4407480"/>
            <a:chOff x="459000" y="1752120"/>
            <a:chExt cx="7237080" cy="4407480"/>
          </a:xfrm>
        </p:grpSpPr>
        <p:sp>
          <p:nvSpPr>
            <p:cNvPr id="198" name=""/>
            <p:cNvSpPr/>
            <p:nvPr/>
          </p:nvSpPr>
          <p:spPr>
            <a:xfrm>
              <a:off x="1295280" y="5791320"/>
              <a:ext cx="6400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512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460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2408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3392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4340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5288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272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7220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81680" y="579132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295280" y="1752120"/>
              <a:ext cx="0" cy="403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95280" y="3505320"/>
              <a:ext cx="64008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280" y="4267080"/>
              <a:ext cx="64008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95280" y="5029200"/>
              <a:ext cx="64008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1981080"/>
              <a:ext cx="64008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2743200"/>
              <a:ext cx="64008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7720" y="331488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7600" y="251460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1280" y="403848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-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9000" y="481500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-10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3280" y="55767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-15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4960" y="17524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581280"/>
              <a:ext cx="609480" cy="205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514600" y="4952520"/>
              <a:ext cx="60948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24080" y="4952880"/>
              <a:ext cx="609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33920" y="4952880"/>
              <a:ext cx="60948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343400" y="3048120"/>
              <a:ext cx="609480" cy="2209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952880" y="2590920"/>
              <a:ext cx="60984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562720" y="2514600"/>
              <a:ext cx="609480" cy="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72200" y="2514600"/>
              <a:ext cx="60948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6996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1148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2096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3080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0860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1808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8328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6908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46880" y="57913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200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00560" y="62866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ct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647712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905120" y="3306600"/>
            <a:ext cx="5474520" cy="3324240"/>
            <a:chOff x="1905120" y="3306600"/>
            <a:chExt cx="5474520" cy="3324240"/>
          </a:xfrm>
        </p:grpSpPr>
        <p:sp>
          <p:nvSpPr>
            <p:cNvPr id="240" name=""/>
            <p:cNvSpPr/>
            <p:nvPr/>
          </p:nvSpPr>
          <p:spPr>
            <a:xfrm>
              <a:off x="1905120" y="3467160"/>
              <a:ext cx="48765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000" y="626256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Times New Roman"/>
                </a:rPr>
                <a:t>Aver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9880" y="6477120"/>
              <a:ext cx="4572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67640" y="330660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ff9900"/>
                  </a:solidFill>
                  <a:latin typeface="Times New Roman"/>
                </a:rPr>
                <a:t>1. 2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05120" y="3124080"/>
            <a:ext cx="5490360" cy="3506760"/>
            <a:chOff x="1905120" y="3124080"/>
            <a:chExt cx="5490360" cy="3506760"/>
          </a:xfrm>
        </p:grpSpPr>
        <p:sp>
          <p:nvSpPr>
            <p:cNvPr id="245" name=""/>
            <p:cNvSpPr/>
            <p:nvPr/>
          </p:nvSpPr>
          <p:spPr>
            <a:xfrm>
              <a:off x="1905120" y="3276720"/>
              <a:ext cx="48765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45360" y="62625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Times New Roman"/>
                </a:rPr>
                <a:t>Ai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67280" y="6477120"/>
              <a:ext cx="45720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3480" y="312408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6ff33"/>
                  </a:solidFill>
                  <a:latin typeface="Times New Roman"/>
                </a:rPr>
                <a:t>12. 5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Market Issu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on Capital appears inadequate over market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.5% aim over market cycle can only be achieved if rates now stabil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continuing softening of the market would bring the long-term viability of Energy Insurance into ques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ital is no longer tolerant of inadequate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Times New Roman"/>
              </a:rPr>
              <a:t>Market Dynamic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dity Pricing:  Gas and 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 Utilisation/Loss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ims Inf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 Losses in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ol of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bile Offshore Drilling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ign Loss Environment in 2002 &amp;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suranc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dity Pri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486400"/>
            <a:ext cx="64008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4267080"/>
            <a:ext cx="64008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3657600"/>
            <a:ext cx="64008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5486400"/>
            <a:ext cx="6400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4876920"/>
            <a:ext cx="64008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371600" y="320040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772400" y="320040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560" y="2057400"/>
            <a:ext cx="15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Nymex Swe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Crude O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$/bb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82360" y="1979640"/>
            <a:ext cx="173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Nyme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Henry Hub 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$/mmb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9680" y="5257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968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680" y="40384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3560" y="4662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80320" y="52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74200" y="464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4200" y="4038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74200" y="34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5562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93600" y="55008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 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08000" y="55008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p 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22400" y="54864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 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0" y="54864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p 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51200" y="54864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 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03760" y="54864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p 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286000" y="5257440"/>
            <a:ext cx="914400" cy="15228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200400" y="5028840"/>
            <a:ext cx="91440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114800" y="4952880"/>
            <a:ext cx="914400" cy="7632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029200" y="4495680"/>
            <a:ext cx="914400" cy="4572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943600" y="4114800"/>
            <a:ext cx="914400" cy="38088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286000" y="4876920"/>
            <a:ext cx="914400" cy="3808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200400" y="4114440"/>
            <a:ext cx="914400" cy="762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4114800"/>
            <a:ext cx="914400" cy="76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4191120"/>
            <a:ext cx="1828800" cy="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16:00:06Z</dcterms:created>
  <dc:creator>Sara Roberts</dc:creator>
  <dc:description/>
  <dc:language>en-US</dc:language>
  <cp:lastModifiedBy>dhoare</cp:lastModifiedBy>
  <dcterms:modified xsi:type="dcterms:W3CDTF">2004-09-07T08:21:14Z</dcterms:modified>
  <cp:revision>156</cp:revision>
  <dc:subject/>
  <dc:title>Watkins Syndicate </dc:title>
</cp:coreProperties>
</file>