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7.wmf" ContentType="image/x-wmf"/>
  <Override PartName="/ppt/media/image9.png" ContentType="image/png"/>
  <Override PartName="/ppt/media/image14.jpeg" ContentType="image/jpeg"/>
  <Override PartName="/ppt/media/image8.png" ContentType="image/png"/>
  <Override PartName="/ppt/media/image16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11.png" ContentType="image/png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36.wmf" ContentType="image/x-wmf"/>
  <Override PartName="/ppt/media/image7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669-44C3-4E58-B62B-B35A6EDC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398-829E-4F64-8B31-DCFD2AA2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D1D-87F0-4B71-BBDD-59C3ECDC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761-9887-4BC6-9E3A-71B1131B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4224-F6A1-4142-89A9-5C6BC56E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7F19-9630-4307-BE7B-95812FB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BD80-64F8-4504-9885-DCA6F573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7E7E-D8C1-458F-9FFB-E5B0C5F1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A784-69E1-4248-8BE3-9314423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00A6-2B95-4D4C-8E71-A143AE94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673-1735-4200-BDE6-399EE0F5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7CA-FB02-453E-AF53-D1CB9187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34D-6E0B-4B1F-9CE4-B1D2E72E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1B07-658D-4EFD-AC34-84C7363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9403-2F4C-409D-B14B-7FA361F8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524B-C359-4473-998F-53114DC2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CB2A-BCCF-4C7A-8336-91EC1A5E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F9D-6B54-43C4-A628-6F47A4B8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804-F58C-489D-98E2-CF53697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286-3FB8-4F77-B523-9BF011E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6ED-870D-4902-A976-6B8D67FF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DF4-D3DC-44A5-8D3D-D4E50ED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8D8-6591-4101-BCB9-79E4D2A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7E3-61B5-4A43-9AE7-032F625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06CC-D7EA-44A9-9E19-D7A347FF9A3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69E-3C50-432A-9CD9-22D4B87C2F7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1447920"/>
            <a:ext cx="5905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olatility and Cyclicality of the Marine Insurance Mark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Justin Gardner – Gen 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writing Cycles Present in Different Count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ifferent Lines of Business (even Marin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86040" y="5714640"/>
            <a:ext cx="3048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urce:Almm-Tennant &amp; Weiss, International Insurance Cyc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Rational Expect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ject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964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Cycles Exi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1295280" y="1219320"/>
            <a:ext cx="7391520" cy="5333760"/>
            <a:chOff x="1295280" y="1219320"/>
            <a:chExt cx="7391520" cy="5333760"/>
          </a:xfrm>
        </p:grpSpPr>
        <p:pic>
          <p:nvPicPr>
            <p:cNvPr id="116" name="Picture 3" descr=""/>
            <p:cNvPicPr/>
            <p:nvPr/>
          </p:nvPicPr>
          <p:blipFill>
            <a:blip r:embed="rId1"/>
            <a:stretch/>
          </p:blipFill>
          <p:spPr>
            <a:xfrm>
              <a:off x="1295280" y="1560600"/>
              <a:ext cx="7391520" cy="49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"/>
            <p:cNvPicPr/>
            <p:nvPr/>
          </p:nvPicPr>
          <p:blipFill>
            <a:blip r:embed="rId2"/>
            <a:stretch/>
          </p:blipFill>
          <p:spPr>
            <a:xfrm>
              <a:off x="1295280" y="1219320"/>
              <a:ext cx="7391520" cy="49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803680" y="5099040"/>
              <a:ext cx="4449600" cy="119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a50021"/>
                  </a:solidFill>
                  <a:latin typeface="Times New Roman"/>
                </a:rPr>
                <a:t>C</a:t>
              </a:r>
              <a:r>
                <a:rPr b="1" lang="en-US" sz="7200" spc="-1" strike="noStrike" u="sng" baseline="14000">
                  <a:solidFill>
                    <a:srgbClr val="a50021"/>
                  </a:solidFill>
                  <a:uFillTx/>
                  <a:latin typeface="Times New Roman"/>
                </a:rPr>
                <a:t>YCLE</a:t>
              </a:r>
              <a:r>
                <a:rPr b="1" lang="en-US" sz="6600" spc="-1" strike="noStrike">
                  <a:solidFill>
                    <a:srgbClr val="a50021"/>
                  </a:solidFill>
                  <a:latin typeface="Times New Roman"/>
                </a:rPr>
                <a:t>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#1 -Insurance Markets Operate Irrationally and/or Exhibit Market Imper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#2 - Rational Expectations/Institutional Intervention (aka “When Bad Things Happen to Good Underwriter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5410080"/>
            <a:ext cx="7570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, regulatory, &amp; account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xpected shocks to surplus (Nat Cat, shifts in claims costs, or loss distribu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 rate and equity valu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3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41008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Affecting Cycle Period Length (measured by change in premium volu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in discount rate and stock market indexes (posi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ic expansion of the late 80’s through the 9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equity returns of 2000-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strophe Losses (nega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r Alpha (198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rricanes “Andrew” (199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ridge Earthquake (199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rricanes “Charley,” “Frances,” and “Ivan” 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period length (posi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term Blue Water Hull policies of 96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in underwriting result (positive relation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 Water Hull and Offshore Energy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nclusions on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cles are universal and will have different lengths and seve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seems to indicate that irrational behavior is not the only driver.  Can’t eliminate cycles by alerting others to their bad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s and Underwriters can only control their own actions and behaviors in the face of external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2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153280" cy="51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s and Underwriters are Not Help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5708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s they make will either exacerbate the effects of the underwriting cycle or blun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in of underwriting cycles will be more severe when management t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e underwr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invest i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estimate parameter and model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strict premium volume goals or “budg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620120" cy="4284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 hope to avo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ening Market Strategy #1 – maintain rates, reducing premium volume and increasing expense rat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680" y="5943600"/>
            <a:ext cx="153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mounts in m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1"/>
          <a:stretch/>
        </p:blipFill>
        <p:spPr>
          <a:xfrm>
            <a:off x="4724280" y="2048040"/>
            <a:ext cx="857520" cy="343836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10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590920" cy="385776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1" descr=""/>
          <p:cNvPicPr/>
          <p:nvPr/>
        </p:nvPicPr>
        <p:blipFill>
          <a:blip r:embed="rId3"/>
          <a:stretch/>
        </p:blipFill>
        <p:spPr>
          <a:xfrm>
            <a:off x="6400800" y="2057400"/>
            <a:ext cx="1123920" cy="34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ening Market Strategy #2 – cut rates to preserve premium volume and control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680" y="5943600"/>
            <a:ext cx="153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mounts in m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35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590560" cy="385740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36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857160" cy="343836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38" descr=""/>
          <p:cNvPicPr/>
          <p:nvPr/>
        </p:nvPicPr>
        <p:blipFill>
          <a:blip r:embed="rId3"/>
          <a:stretch/>
        </p:blipFill>
        <p:spPr>
          <a:xfrm>
            <a:off x="6381720" y="2057400"/>
            <a:ext cx="1085760" cy="34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ening Market Strategy #2 – cut rates to preserve premium volume and control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680" y="5943600"/>
            <a:ext cx="153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amounts in m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590560" cy="385740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5" descr=""/>
          <p:cNvPicPr/>
          <p:nvPr/>
        </p:nvPicPr>
        <p:blipFill>
          <a:blip r:embed="rId2"/>
          <a:stretch/>
        </p:blipFill>
        <p:spPr>
          <a:xfrm>
            <a:off x="3962520" y="2048040"/>
            <a:ext cx="857160" cy="343836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7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3581640" cy="2667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8" descr=""/>
          <p:cNvPicPr/>
          <p:nvPr/>
        </p:nvPicPr>
        <p:blipFill>
          <a:blip r:embed="rId4"/>
          <a:stretch/>
        </p:blipFill>
        <p:spPr>
          <a:xfrm>
            <a:off x="5229360" y="2305080"/>
            <a:ext cx="790560" cy="318132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9" descr=""/>
          <p:cNvPicPr/>
          <p:nvPr/>
        </p:nvPicPr>
        <p:blipFill>
          <a:blip r:embed="rId5"/>
          <a:stretch/>
        </p:blipFill>
        <p:spPr>
          <a:xfrm>
            <a:off x="6315120" y="2305080"/>
            <a:ext cx="1457280" cy="318132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0" descr=""/>
          <p:cNvPicPr/>
          <p:nvPr/>
        </p:nvPicPr>
        <p:blipFill>
          <a:blip r:embed="rId6"/>
          <a:stretch/>
        </p:blipFill>
        <p:spPr>
          <a:xfrm>
            <a:off x="7848720" y="2305080"/>
            <a:ext cx="799920" cy="3181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3920" y="5638680"/>
            <a:ext cx="223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ssumes 25% rat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5153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writing Profits and Combined Ratios Will Decline in a Softening Rat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666880"/>
            <a:ext cx="72421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marL="172440" indent="-17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Strate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8535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tain underwriting and pricing discipline to control loss ratio even though premium volume declines and the expense ratio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8535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2440" indent="-17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Strate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8535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ut rates to maintain premium volume an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trol expense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834320" cy="3182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Underwriters Can Blunt the Effects of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writ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410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 of competence – appreciation of what we know and do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to Art ratio (80/20 not 20/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ection points and trend – Looking Forward as well as back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spcAft>
                <a:spcPts val="29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pplying law of large numbers to small samples. (experience vs. exposure underwri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219320"/>
            <a:ext cx="7620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pain of underwriting cycles can be blunted if underwriters better underst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Sample Experien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Object 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543800" cy="565200"/>
          </a:xfrm>
          <a:prstGeom prst="rect">
            <a:avLst/>
          </a:prstGeom>
          <a:ln w="0">
            <a:noFill/>
          </a:ln>
        </p:spPr>
      </p:pic>
      <p:pic>
        <p:nvPicPr>
          <p:cNvPr id="161" name="Object 5" descr=""/>
          <p:cNvPicPr/>
          <p:nvPr/>
        </p:nvPicPr>
        <p:blipFill>
          <a:blip r:embed="rId2"/>
          <a:stretch/>
        </p:blipFill>
        <p:spPr>
          <a:xfrm>
            <a:off x="1457280" y="3033720"/>
            <a:ext cx="1971720" cy="79056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6" descr=""/>
          <p:cNvPicPr/>
          <p:nvPr/>
        </p:nvPicPr>
        <p:blipFill>
          <a:blip r:embed="rId3"/>
          <a:stretch/>
        </p:blipFill>
        <p:spPr>
          <a:xfrm>
            <a:off x="3648240" y="2371680"/>
            <a:ext cx="465768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7" descr=""/>
          <p:cNvPicPr/>
          <p:nvPr/>
        </p:nvPicPr>
        <p:blipFill>
          <a:blip r:embed="rId4"/>
          <a:stretch/>
        </p:blipFill>
        <p:spPr>
          <a:xfrm>
            <a:off x="3657600" y="3033720"/>
            <a:ext cx="2190600" cy="79056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8" descr=""/>
          <p:cNvPicPr/>
          <p:nvPr/>
        </p:nvPicPr>
        <p:blipFill>
          <a:blip r:embed="rId5"/>
          <a:stretch/>
        </p:blipFill>
        <p:spPr>
          <a:xfrm>
            <a:off x="6143760" y="3033720"/>
            <a:ext cx="2162160" cy="79056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12" descr=""/>
          <p:cNvPicPr/>
          <p:nvPr/>
        </p:nvPicPr>
        <p:blipFill>
          <a:blip r:embed="rId6"/>
          <a:stretch/>
        </p:blipFill>
        <p:spPr>
          <a:xfrm>
            <a:off x="1457280" y="4086360"/>
            <a:ext cx="1971720" cy="79056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13" descr=""/>
          <p:cNvPicPr/>
          <p:nvPr/>
        </p:nvPicPr>
        <p:blipFill>
          <a:blip r:embed="rId7"/>
          <a:stretch/>
        </p:blipFill>
        <p:spPr>
          <a:xfrm>
            <a:off x="4781520" y="4086360"/>
            <a:ext cx="1085760" cy="79056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14" descr=""/>
          <p:cNvPicPr/>
          <p:nvPr/>
        </p:nvPicPr>
        <p:blipFill>
          <a:blip r:embed="rId8"/>
          <a:stretch/>
        </p:blipFill>
        <p:spPr>
          <a:xfrm>
            <a:off x="7238880" y="4086360"/>
            <a:ext cx="10861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a difficult business but not a complicated 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the situation prevailing in many other industrie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ther size nor br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nsurer’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deed, many of the biggest and best–known companies regularly deliver mediocre resul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u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busin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underwriting discip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4800600"/>
            <a:ext cx="327636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ren E. Buff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shire Hath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 Letter to Shar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19810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rance is a lousy business…and a very challenging business to invest in.  It is a notoriously cyclical industry which regularly behaves poor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3840" y="4494240"/>
            <a:ext cx="21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J Dow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NR 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54200" y="541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es - Anecdo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es - Anecdo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570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y it’s only in the rinse cycle that you find out how dirty the laundry really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are in the rinse cyc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 algn="just">
              <a:spcBef>
                <a:spcPts val="700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ren E. Buff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 algn="just">
              <a:spcBef>
                <a:spcPts val="700"/>
              </a:spcBef>
              <a:buNone/>
              <a:tabLst>
                <a:tab algn="l" pos="0"/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4510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5238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urance Companies always pledge to be “disciplined” underwriters just as investors always say they won’t overpay for stocks and bonds.  But good times are intoxicating.  Several Years of a hard market have the same effect on insurance company CEO’s as several margaritas have on teenage boys: they start acting sil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3800" y="518148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Sc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ffs Insurance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. 16, #11 Sept 10,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4200" y="541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es - Anecdot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s – Empirical Evidence i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54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s – Empirical Evidence in Capita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964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Insurance Cycles: Rational Expectations/Institutional Interven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Lamm-Tenant; Mary A. Weis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rnal of Risk and Insurance Vol. 64, No. 3 (Sep., 1997), 415-439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I found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4267080" cy="1030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3124080" cy="42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1752480" y="4267080"/>
            <a:ext cx="59436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4038480" y="2666880"/>
            <a:ext cx="4572000" cy="101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tretch/>
        </p:blipFill>
        <p:spPr>
          <a:xfrm>
            <a:off x="4724280" y="533520"/>
            <a:ext cx="3962520" cy="946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Logan</cp:lastModifiedBy>
  <dcterms:modified xsi:type="dcterms:W3CDTF">2004-10-03T08:38:20Z</dcterms:modified>
  <cp:revision>20</cp:revision>
  <dc:subject/>
  <dc:title>Speaker’s Name Speaker’s Topic Date</dc:title>
</cp:coreProperties>
</file>