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5.wmf" ContentType="image/x-wmf"/>
  <Override PartName="/ppt/media/image15.jpeg" ContentType="image/jpeg"/>
  <Override PartName="/ppt/media/image23.jpeg" ContentType="image/jpeg"/>
  <Override PartName="/ppt/media/image10.wmf" ContentType="image/x-wmf"/>
  <Override PartName="/ppt/media/image2.png" ContentType="image/png"/>
  <Override PartName="/ppt/media/image19.jpeg" ContentType="image/jpeg"/>
  <Override PartName="/ppt/media/image3.png" ContentType="image/png"/>
  <Override PartName="/ppt/media/image11.wmf" ContentType="image/x-wmf"/>
  <Override PartName="/ppt/media/image26.png" ContentType="image/png"/>
  <Override PartName="/ppt/media/image9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28.wmf" ContentType="image/x-wmf"/>
  <Override PartName="/ppt/media/image8.wmf" ContentType="image/x-wmf"/>
  <Override PartName="/ppt/media/image13.png" ContentType="image/png"/>
  <Override PartName="/ppt/media/image33.wmf" ContentType="image/x-wmf"/>
  <Override PartName="/ppt/media/image31.wmf" ContentType="image/x-wmf"/>
  <Override PartName="/ppt/media/image7.jpeg" ContentType="image/jpeg"/>
  <Override PartName="/ppt/media/image6.png" ContentType="image/png"/>
  <Override PartName="/ppt/media/image29.png" ContentType="image/png"/>
  <Override PartName="/ppt/media/image32.wmf" ContentType="image/x-wmf"/>
  <Override PartName="/ppt/media/image22.wmf" ContentType="image/x-wmf"/>
  <Override PartName="/ppt/media/image20.jpeg" ContentType="image/jpeg"/>
  <Override PartName="/ppt/media/image34.wmf" ContentType="image/x-wmf"/>
  <Override PartName="/ppt/media/image4.wmf" ContentType="image/x-wmf"/>
  <Override PartName="/ppt/media/image1.png" ContentType="image/png"/>
  <Override PartName="/ppt/media/image14.jpeg" ContentType="image/jpeg"/>
  <Override PartName="/ppt/media/image5.wmf" ContentType="image/x-wmf"/>
  <Override PartName="/ppt/media/image16.jpeg" ContentType="image/jpeg"/>
  <Override PartName="/ppt/media/image17.png" ContentType="image/png"/>
  <Override PartName="/ppt/media/image18.jpeg" ContentType="image/jpeg"/>
  <Override PartName="/ppt/media/image2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0991-517E-482E-B0BB-389872CB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4B0F-9102-4D70-816A-9F56EB6A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8022-2920-4B30-B1C4-FBFD79AA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2D7C-60F7-41A2-B092-C6D9DCFF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3EE5-BAFE-44FD-8538-30DF4430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AD6A-17A3-4C28-9809-F0DEEEE9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7F22-8EBD-40F9-B505-030CCA9D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5A1E-DC0C-4AC8-A5D8-719237B1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EFB8-AAD9-4EE3-AEB5-48ACAE07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1D8F-4660-446F-914F-DB142D8C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8F6F-994B-434F-9CB5-E993BAFC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0DB4-AD33-4474-9EFE-ECC723AF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5724-059B-4BCF-B206-431BF44C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1B8C-9771-4E59-86BE-CA40E0C0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F7DA-7786-4C29-90C0-DA72B303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069F-9FF3-4259-BA73-CB9574A2A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A078-3949-4849-B9D9-118433BD5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68E6-1C24-46A3-94F2-F35ED436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2A64-4B76-40D5-BDAC-8BE8D898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4412-4900-4E09-9901-11D1100B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42DD-E663-4788-843D-EC7F8BFE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6516-DE8C-4F71-9BFC-50C827D0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223B-722F-45CC-BA76-2B2586BD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B9F3-49EC-47D1-8A87-53CD418C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7164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0800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FDA4-53DE-4C51-9F20-AB765145D760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63F8-7843-4C6F-87C6-11F6EEE5700A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84360" y="2130480"/>
            <a:ext cx="5832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411280" y="2205000"/>
            <a:ext cx="59058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vestock Exports - The Australian Experience</a:t>
            </a:r>
            <a:br>
              <a:rPr sz="36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il Grie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3880" y="2076480"/>
            <a:ext cx="6858000" cy="4095720"/>
          </a:xfrm>
          <a:prstGeom prst="rect">
            <a:avLst/>
          </a:prstGeom>
          <a:ln w="0">
            <a:noFill/>
          </a:ln>
        </p:spPr>
      </p:pic>
      <p:pic>
        <p:nvPicPr>
          <p:cNvPr id="117" name="Object 13" descr=""/>
          <p:cNvPicPr/>
          <p:nvPr/>
        </p:nvPicPr>
        <p:blipFill>
          <a:blip r:embed="rId2"/>
          <a:srcRect l="6394" t="0" r="12792" b="0"/>
          <a:stretch/>
        </p:blipFill>
        <p:spPr>
          <a:xfrm>
            <a:off x="1371600" y="1371600"/>
            <a:ext cx="7238880" cy="5149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vestock Mortality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and threats to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7400" y="1600200"/>
            <a:ext cx="757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s taken to improve mortality r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71440" y="2812320"/>
            <a:ext cx="73630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2960" indent="-37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man training and accreditatio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ion of livestock vessels by AM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yage investi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 risk managemen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304040" y="3962520"/>
            <a:ext cx="1382760" cy="2438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039560" y="5272920"/>
            <a:ext cx="205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and threats to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incidents continue to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 welfare lobbyists want to ban live ex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publicised incidents kept in public ey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2100240" y="3505320"/>
            <a:ext cx="56577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and threats to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523880" y="1928880"/>
            <a:ext cx="6934320" cy="3252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295280" y="55692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1996 - “Uniceb” caught fire and sank in Indian Ocean. 67,000 sheep d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and threats to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051" descr=""/>
          <p:cNvPicPr/>
          <p:nvPr/>
        </p:nvPicPr>
        <p:blipFill>
          <a:blip r:embed="rId1"/>
          <a:stretch/>
        </p:blipFill>
        <p:spPr>
          <a:xfrm>
            <a:off x="1390680" y="1943280"/>
            <a:ext cx="7143840" cy="3390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295280" y="56833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6 - “Guernsey Express” sank en route to Japan. 1,592 cattle d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and threats to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243480" cy="3106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219320" y="54356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1999 - “Temburong” loss of power causing ventilation failure en route to Indonesia. 829 cattle d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and threats to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04760" y="57520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2002 - “Becrux” 880 cattle died en route to Middle Ea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1892160" y="1496880"/>
            <a:ext cx="6172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and threats to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17000" y="388512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os Tau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2240" y="594252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os Indi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2" descr=""/>
          <p:cNvPicPr/>
          <p:nvPr/>
        </p:nvPicPr>
        <p:blipFill>
          <a:blip r:embed="rId1"/>
          <a:stretch/>
        </p:blipFill>
        <p:spPr>
          <a:xfrm>
            <a:off x="4938840" y="3276720"/>
            <a:ext cx="3809880" cy="2590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"/>
          <p:cNvPicPr/>
          <p:nvPr/>
        </p:nvPicPr>
        <p:blipFill>
          <a:blip r:embed="rId2"/>
          <a:stretch/>
        </p:blipFill>
        <p:spPr>
          <a:xfrm>
            <a:off x="1163520" y="1295280"/>
            <a:ext cx="365760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and threats to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y 2002 - Australian Government banned export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s taur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ttle sourced from southern Australia until after 31st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716200" y="2857680"/>
            <a:ext cx="3711600" cy="35431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057400" y="4648320"/>
            <a:ext cx="556272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819520" y="4687920"/>
            <a:ext cx="380988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029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029680" y="5302440"/>
            <a:ext cx="585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rmo Express” sheep on board rej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y destination cou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vestock Ex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8" descr=""/>
          <p:cNvPicPr/>
          <p:nvPr/>
        </p:nvPicPr>
        <p:blipFill>
          <a:blip r:embed="rId1"/>
          <a:stretch/>
        </p:blipFill>
        <p:spPr>
          <a:xfrm>
            <a:off x="2666880" y="3505320"/>
            <a:ext cx="4343400" cy="2886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26440" y="1904040"/>
            <a:ext cx="35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72960" indent="-372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7,000 sheep rej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36160" y="2665800"/>
            <a:ext cx="75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72960" indent="-372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uising sheep” made headlines for wrong r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and threats to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2258640"/>
            <a:ext cx="71913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2960" indent="-37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animals leave Australia - no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nging sheep back was absolute last res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country s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029360" y="4495680"/>
            <a:ext cx="1352520" cy="1562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973840" y="4818240"/>
            <a:ext cx="1646280" cy="17348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500720" y="4343400"/>
            <a:ext cx="15951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and threats to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6000" y="1295280"/>
            <a:ext cx="757080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mmendations following “Cormo Express” inc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solely responsible for legislation for granting export lic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rt licences and permits linked with legi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party vets responsible to AQIS in performance of du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fied vet on board all livestock ships where journey exceeds 1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and threats to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6000" y="1523520"/>
            <a:ext cx="757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6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ation of industry investment in research and development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7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antine facility in Middle East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8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response system to manage any future export emerg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2160" y="5091120"/>
            <a:ext cx="800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 has accepted these recommend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16000" y="3805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vestock exports and marine in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6000" y="169200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minor incident can have dramatic and expensive consequ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ualties which result in prolongation of the voyage may result in higher than normal death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 devastating for any cargo vessel, more so for livestock. No lifeboats for livesto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2362320" y="4091040"/>
            <a:ext cx="4967280" cy="2359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895480" y="4253040"/>
            <a:ext cx="4038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6000" y="35676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vestock exports and marine in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715840" y="1600200"/>
            <a:ext cx="4522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ipal cover provid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death of live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07360" y="2894760"/>
            <a:ext cx="68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of warranties and ex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3458520"/>
            <a:ext cx="75801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729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372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ustralian accredited stockman accompanies each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h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7296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372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xclude loss from ino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7296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372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248520" y="3886200"/>
            <a:ext cx="1371600" cy="10414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105560" y="4910760"/>
            <a:ext cx="58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72960" indent="-37296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de loss due to parturient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6000" y="33624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vestock exports and marine in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62160" y="2133360"/>
            <a:ext cx="4800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etus cl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shipment retest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serk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47880" y="1599480"/>
            <a:ext cx="35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sions to c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"/>
          <p:cNvPicPr/>
          <p:nvPr/>
        </p:nvPicPr>
        <p:blipFill>
          <a:blip r:embed="rId1"/>
          <a:stretch/>
        </p:blipFill>
        <p:spPr>
          <a:xfrm>
            <a:off x="1351080" y="2151000"/>
            <a:ext cx="2458800" cy="17985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923200" y="4190400"/>
            <a:ext cx="33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 may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55600" y="4586400"/>
            <a:ext cx="544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72960" indent="-372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transits to port of 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 to final destination/quaran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99240" y="5699160"/>
            <a:ext cx="733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o be aware of precise transit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r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of trade is in the hands of the exporters and shipping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idents will draw the attention of animal rights campaigners and the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rers need volume of trade with a profitable and viable income str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234040" y="3949560"/>
            <a:ext cx="269064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844880" y="1371600"/>
            <a:ext cx="717840" cy="1916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905120" y="1447920"/>
            <a:ext cx="5562360" cy="4760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148360" y="1925640"/>
            <a:ext cx="303120" cy="5335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2792520" y="949320"/>
            <a:ext cx="4647960" cy="46339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uising sh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411280" y="2205000"/>
            <a:ext cx="59058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vestock Exports - The Australian Experience</a:t>
            </a:r>
            <a:br>
              <a:rPr sz="36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il Grie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ep Ex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bject 5" descr=""/>
          <p:cNvPicPr/>
          <p:nvPr/>
        </p:nvPicPr>
        <p:blipFill>
          <a:blip r:embed="rId1"/>
          <a:stretch/>
        </p:blipFill>
        <p:spPr>
          <a:xfrm>
            <a:off x="914400" y="1157400"/>
            <a:ext cx="7783560" cy="54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tle Ex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ject 4" descr=""/>
          <p:cNvPicPr/>
          <p:nvPr/>
        </p:nvPicPr>
        <p:blipFill>
          <a:blip r:embed="rId1"/>
          <a:stretch/>
        </p:blipFill>
        <p:spPr>
          <a:xfrm>
            <a:off x="914400" y="1117440"/>
            <a:ext cx="764064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 all the animals g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696080" cy="4511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 flipV="1">
            <a:off x="7010280" y="4724280"/>
            <a:ext cx="533520" cy="457200"/>
          </a:xfrm>
          <a:prstGeom prst="line">
            <a:avLst/>
          </a:prstGeom>
          <a:ln w="6336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6019560" y="4190760"/>
            <a:ext cx="1523880" cy="990360"/>
          </a:xfrm>
          <a:prstGeom prst="line">
            <a:avLst/>
          </a:prstGeom>
          <a:ln w="633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7314840" y="4419720"/>
            <a:ext cx="228600" cy="761760"/>
          </a:xfrm>
          <a:prstGeom prst="line">
            <a:avLst/>
          </a:prstGeom>
          <a:ln w="6336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2742840" y="4267080"/>
            <a:ext cx="4800600" cy="914400"/>
          </a:xfrm>
          <a:prstGeom prst="line">
            <a:avLst/>
          </a:prstGeom>
          <a:ln w="6336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6857640" y="3886200"/>
            <a:ext cx="685800" cy="1295280"/>
          </a:xfrm>
          <a:prstGeom prst="line">
            <a:avLst/>
          </a:prstGeom>
          <a:ln w="6336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510320" y="3809520"/>
            <a:ext cx="144720" cy="1357560"/>
          </a:xfrm>
          <a:prstGeom prst="line">
            <a:avLst/>
          </a:prstGeom>
          <a:ln w="6336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5409720" y="4038120"/>
            <a:ext cx="2057400" cy="1143000"/>
          </a:xfrm>
          <a:prstGeom prst="line">
            <a:avLst/>
          </a:prstGeom>
          <a:ln w="6336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ssels 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6000" y="1295280"/>
            <a:ext cx="7570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ity of animal exports go by 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 built/converted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053" descr=""/>
          <p:cNvPicPr/>
          <p:nvPr/>
        </p:nvPicPr>
        <p:blipFill>
          <a:blip r:embed="rId1"/>
          <a:stretch/>
        </p:blipFill>
        <p:spPr>
          <a:xfrm>
            <a:off x="2438280" y="2303640"/>
            <a:ext cx="4953240" cy="3716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041200" y="6094800"/>
            <a:ext cx="583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ecrux” - 2002 launch at Uljanik shipy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ssels 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er livestock vessels converted from other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range in age of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regulations and compliance uneconomic for older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221520" y="3727440"/>
            <a:ext cx="1855800" cy="2652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203960" y="4038480"/>
            <a:ext cx="457200" cy="53352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 rot="1311600">
            <a:off x="7124400" y="4114800"/>
            <a:ext cx="723960" cy="152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omply</a:t>
            </a:r>
            <a:endParaRPr b="1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6000" y="2209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and threa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the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28800" y="1362240"/>
            <a:ext cx="6095880" cy="4592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vestock Mortality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Object 5" descr=""/>
          <p:cNvPicPr/>
          <p:nvPr/>
        </p:nvPicPr>
        <p:blipFill>
          <a:blip r:embed="rId2"/>
          <a:srcRect l="6394" t="0" r="12792" b="0"/>
          <a:stretch/>
        </p:blipFill>
        <p:spPr>
          <a:xfrm>
            <a:off x="1371600" y="1371600"/>
            <a:ext cx="723888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9T09:35:30Z</dcterms:created>
  <dc:creator>EventCo</dc:creator>
  <dc:description/>
  <dc:language>en-US</dc:language>
  <cp:lastModifiedBy>Logan</cp:lastModifiedBy>
  <dcterms:modified xsi:type="dcterms:W3CDTF">2004-10-03T10:44:55Z</dcterms:modified>
  <cp:revision>52</cp:revision>
  <dc:subject/>
  <dc:title>Speaker’s Name Speaker’s Topic Date</dc:title>
</cp:coreProperties>
</file>