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7C6-2218-4CD8-974A-0B694D95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EAC-58A8-45C5-90C5-ACD9AE83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208-CE53-450A-B136-7158C8EA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50A-C345-4D5E-82DF-03038478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2BA2-0C98-4F80-BB09-AE9C4FB1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E92D-8D3A-4926-BE46-DFEB687C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AB9B-CCC5-4F3B-BB06-CEAD0593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1066-0A42-4A91-A90A-44761002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D28B-D90F-43DB-A7AC-9460D9E6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E221-15C7-4308-B059-F69EE2D0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294D-524C-4D9F-BDB0-BDCA8778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CDF-BFCE-46B9-AC60-7B2EE589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6F2C-EBB2-4D66-80B7-BBDFD669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B713-2492-4F67-94DE-956EB66B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0E44-0946-413A-8F71-4D79AD0B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7CBB-4C9E-41AB-9095-64DAB462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59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355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600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759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355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E0BF-D913-42A2-8DC3-86FCD682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A65-FCE2-4BE1-9BE2-88C9082D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C67C-0016-4E1B-9400-4E4E4AAE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2AF-A137-496F-9ECD-62C4DB65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843-B377-4F56-8403-3F5339E1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B85-ABAF-49CA-9F91-329B1E33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933-3DF5-4F05-AFEB-A5A11C10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FAE-7190-4736-90DA-FCE18DD2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716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0800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AEC6-B04A-4A34-A89C-FEDC0008D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F700-551A-4B4D-AE2B-92BAA1F64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84360" y="2130480"/>
            <a:ext cx="5832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11280" y="2205000"/>
            <a:ext cx="5905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irman's Repor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rjo Pöyhö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549360"/>
            <a:ext cx="63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2360" y="476280"/>
            <a:ext cx="63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Legal and Liabilit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ional Carriers' Regul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354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IUMI's website since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 countries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updated yearly through Questionn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 Kurt Günthart - contact details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UMI website - please jo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609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egal and Liabilit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57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sition of the Committ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570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l Bu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Belg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deric Denéf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w Garger, Vice-Chairm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U.S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rt Günt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hei Hashisa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no Kneef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mbe Ovio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Nig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rjo Pöyhönen, Chair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Nordic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imo Spado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in Sprott, Stephen Ba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Lloyd's,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ambur Srinivas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akon Stang L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623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egal and Liability Committee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hange of the Committee na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2560" y="1341000"/>
            <a:ext cx="7777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bility - Legal and Liability Committe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mandate - International legal initiatives and Marine Liability Insurance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19640" y="5805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egal and Liabilit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rnational legal initiati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570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ITRAL/CMI Draft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Average Refo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ort of the Legal and Liability Committee 200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609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egal and Liabilit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CITRAL/CMI Draft Instrument for the Carriage of Goods by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920" y="1933200"/>
            <a:ext cx="757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s of the UNCITRAL Transport Law Working Group in October 2003 and in May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inal decisions yet bu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nsus on certain cor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9640" y="6237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egal and Liabilit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CITRAL/CMI Draft Instrument for the Carriage of Goods by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oor-to-door transpor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iability based on to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aworthiness obligation ext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rror in navigation exclusion dele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ire exclusion kep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otice of loss time 7 da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6237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egal and Liabilit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CITRAL/CMI Draft Instrument for the Carriage of Goods by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2920" y="1933200"/>
            <a:ext cx="757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of the UNCITRAL Transport Law Working Group in November-December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finalised b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6237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egal and Liabilit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verage Re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MI Vancouver Conference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ork-Antwerp Rules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 Matthew Marshall's statistics up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gal and Liability Open foru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General Average on Tuesday 14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609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egal and Liabilit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75708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verage - The Fu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York Antwerp Rules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501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 the Scene by Mr Ben Brow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ncouver Confere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Mr Bent Niel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by Mr Matthew Mars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Cargo and Hull Insurance by Mr Nicholas G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59500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Legal and Liability Committee Open Forum, Tuesday 14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807408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Legal and Liability Committee Questionnaire 200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501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Mr Massimo Spad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558972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Legal and Liability Committee pres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9:35:30Z</dcterms:created>
  <dc:creator>EventCo</dc:creator>
  <dc:description/>
  <dc:language>en-US</dc:language>
  <cp:lastModifiedBy>Administrator</cp:lastModifiedBy>
  <dcterms:modified xsi:type="dcterms:W3CDTF">2004-09-12T06:27:33Z</dcterms:modified>
  <cp:revision>25</cp:revision>
  <dc:subject/>
  <dc:title>Speaker’s Name Speaker’s Topic 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0465036</vt:r8>
  </property>
  <property fmtid="{D5CDD505-2E9C-101B-9397-08002B2CF9AE}" pid="3" name="_AuthorEmail">
    <vt:lpwstr>pirjo.poyhonen@if.fi</vt:lpwstr>
  </property>
  <property fmtid="{D5CDD505-2E9C-101B-9397-08002B2CF9AE}" pid="4" name="_AuthorEmailDisplayName">
    <vt:lpwstr>Pöyhönen Pirjo</vt:lpwstr>
  </property>
  <property fmtid="{D5CDD505-2E9C-101B-9397-08002B2CF9AE}" pid="5" name="_EmailSubject">
    <vt:lpwstr>Presentation of the IUMI Legal and Liability Committee at the Singapore Conference</vt:lpwstr>
  </property>
</Properties>
</file>