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8.wmf" ContentType="image/x-wmf"/>
  <Override PartName="/ppt/media/image5.jpeg" ContentType="image/jpeg"/>
  <Override PartName="/ppt/media/image19.jpeg" ContentType="image/jpe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40B-3F4E-4EAC-A6A2-7A8A920C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8EA-BBF1-4A59-80A3-38EE2CDB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AA2-E320-4508-A8BC-410B5635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420-DB68-4453-A3FC-A9F1DD61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030C-4D06-4B2E-91BC-BBADF438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2F3E-9E8D-44E2-A651-00395E0C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0189-E7FC-4103-916A-A6197723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E48D-FCD6-46C0-BA38-EC77BB61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9158-9D5A-4DF9-9A22-877098F4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AABB-7AF7-4AAF-803A-23E043EA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382E-E40D-4298-AA33-8B747549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4AE-90AE-49DE-957B-1422610C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C878-9E29-4B41-8490-76315CC9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D34E-D6D3-4D69-A123-5407E730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7AAE-6409-4EA4-AFD8-940BAE7F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9144-FE1F-4649-9E13-DDF98C16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1A8B-329D-4408-8A0F-A4F0096C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FAB-0FE9-4AE3-8BD7-184363FE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53D-0BEB-4E0F-A8C2-F4EC6C82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ECF-6385-4954-B54E-813AADBE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472-3924-4DCD-B275-04948A38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EA4-441D-4361-868D-C9344479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C97-C199-43D7-9254-8544F29F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139-B391-44BB-A30E-597979D4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1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F68D-80D7-4B14-B034-0ABAF9793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5FA6-6EB2-4BC9-9EED-11A00E2DC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130480"/>
            <a:ext cx="583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4120" y="533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6172200"/>
            <a:ext cx="8686800" cy="182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46280" y="1690560"/>
            <a:ext cx="7864200" cy="397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87480" y="115236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836640"/>
            <a:ext cx="74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IUMI Inland Hull, Fishing Vessels and Yachting Committee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3429000"/>
            <a:ext cx="511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irman’s report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obert Galla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70360" y="575136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ptember 13-15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Yachts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– Minimal rate increases to rate maintenance. 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1080" y="549360"/>
            <a:ext cx="16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979640" y="1413000"/>
          <a:ext cx="5761080" cy="3433680"/>
        </p:xfrm>
        <a:graphic>
          <a:graphicData uri="http://schemas.openxmlformats.org/drawingml/2006/table">
            <a:tbl>
              <a:tblPr/>
              <a:tblGrid>
                <a:gridCol w="2003400"/>
                <a:gridCol w="1419120"/>
                <a:gridCol w="1252800"/>
                <a:gridCol w="1085760"/>
              </a:tblGrid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Prem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x $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Clai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x $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Clai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Ratio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76,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48,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32,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22,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56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2,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39,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,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,7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1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Slov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1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1,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1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236,8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132,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5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482,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305,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494520" y="333360"/>
            <a:ext cx="27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2003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Yacht Losse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04920" y="1600200"/>
            <a:ext cx="3530520" cy="4708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780000" y="2708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65560" y="1600200"/>
            <a:ext cx="35308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Yacht Losse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9138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Aggregation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5898"/>
          <a:stretch/>
        </p:blipFill>
        <p:spPr>
          <a:xfrm>
            <a:off x="1116000" y="1268280"/>
            <a:ext cx="7777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Hurricane Losse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12880" y="1897200"/>
            <a:ext cx="637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Hurricane Losse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92360" y="1809720"/>
            <a:ext cx="6408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Hurricane Losse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08000" y="1996920"/>
            <a:ext cx="583272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Hurricane Losse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9186" r="0" b="0"/>
          <a:stretch/>
        </p:blipFill>
        <p:spPr>
          <a:xfrm>
            <a:off x="1619280" y="1135080"/>
            <a:ext cx="6553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620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55f9"/>
                </a:solidFill>
                <a:latin typeface="Arial"/>
              </a:rPr>
              <a:t>Sustaining Profitability</a:t>
            </a:r>
            <a:endParaRPr b="0" lang="en-US" sz="3600" spc="-1" strike="noStrike">
              <a:solidFill>
                <a:srgbClr val="5555f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nderwriting innov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utomation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Recruitmen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anaging underwriting cycl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45680" y="1628280"/>
            <a:ext cx="77979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Omar Bourhabi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orocco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Paolo Cerni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Vianney de Chalus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Robert Gallagher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Chairman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Sven Gerhar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Eric Heymans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Harry Mulder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      Vice Chairman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etherlands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Geoffrey Parkinson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UK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Joaquim Simplicio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ortuga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r. Harald Teig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rway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6560" y="333360"/>
            <a:ext cx="67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Composition of Commit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24 members replied to the questionnaire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36920" y="463680"/>
            <a:ext cx="50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Questionnaire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116000" y="2060640"/>
          <a:ext cx="7632720" cy="2176560"/>
        </p:xfrm>
        <a:graphic>
          <a:graphicData uri="http://schemas.openxmlformats.org/drawingml/2006/table">
            <a:tbl>
              <a:tblPr/>
              <a:tblGrid>
                <a:gridCol w="922320"/>
                <a:gridCol w="735120"/>
                <a:gridCol w="792000"/>
                <a:gridCol w="792360"/>
                <a:gridCol w="792000"/>
                <a:gridCol w="790560"/>
                <a:gridCol w="792360"/>
                <a:gridCol w="649080"/>
                <a:gridCol w="719280"/>
                <a:gridCol w="647640"/>
              </a:tblGrid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remiums 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aims 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aim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oc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2,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3,8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,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1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8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4,6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8,0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7,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4,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6,9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0,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4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8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,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,7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,5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,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lov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7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976400" y="620640"/>
            <a:ext cx="621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Fishing Vessel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6000" y="1341360"/>
            <a:ext cx="80280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yprus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 cases reported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rance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8 by TL, 12 by acciden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orocco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70 by TL, 201 by acciden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Norway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7 due to drowning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ortugal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3 by accident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uth Africa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L of vessel - 2001 – 22 , 2002 – 49 , 2003 – 55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ccidents – 2001 – 4 , 2002 – 8 , 2003 – 12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USA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explosion led to three lost live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ne crew member pulled overboard after tangled in 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ishing gear.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9840" y="333360"/>
            <a:ext cx="574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Fishing Vessel De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Yacht Demographic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252360" y="1916280"/>
            <a:ext cx="1087272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7632720" cy="6191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7280" y="24919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555f9"/>
                </a:solidFill>
                <a:latin typeface="Arial"/>
              </a:rPr>
              <a:t>Rates</a:t>
            </a:r>
            <a:endParaRPr b="0" lang="en-US" sz="6000" spc="-1" strike="noStrike">
              <a:solidFill>
                <a:srgbClr val="5555f9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059280" y="1773360"/>
            <a:ext cx="3217680" cy="4321080"/>
            <a:chOff x="3059280" y="1773360"/>
            <a:chExt cx="3217680" cy="4321080"/>
          </a:xfrm>
        </p:grpSpPr>
        <p:grpSp>
          <p:nvGrpSpPr>
            <p:cNvPr id="95" name=""/>
            <p:cNvGrpSpPr/>
            <p:nvPr/>
          </p:nvGrpSpPr>
          <p:grpSpPr>
            <a:xfrm>
              <a:off x="3059280" y="1773360"/>
              <a:ext cx="3217680" cy="4321080"/>
              <a:chOff x="3059280" y="1773360"/>
              <a:chExt cx="3217680" cy="43210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059280" y="1773360"/>
                <a:ext cx="3217680" cy="4321080"/>
                <a:chOff x="3059280" y="1773360"/>
                <a:chExt cx="3217680" cy="4321080"/>
              </a:xfrm>
            </p:grpSpPr>
            <p:pic>
              <p:nvPicPr>
                <p:cNvPr id="9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59280" y="1773360"/>
                  <a:ext cx="3217680" cy="4321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" name=""/>
                <p:cNvGrpSpPr/>
                <p:nvPr/>
              </p:nvGrpSpPr>
              <p:grpSpPr>
                <a:xfrm>
                  <a:off x="3276720" y="4076640"/>
                  <a:ext cx="2900160" cy="520560"/>
                  <a:chOff x="3276720" y="4076640"/>
                  <a:chExt cx="2900160" cy="5205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3276720" y="4076640"/>
                    <a:ext cx="2808360" cy="5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276720" y="4076640"/>
                    <a:ext cx="2900160" cy="52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Falling Rates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>
                <a:off x="3203640" y="4581360"/>
                <a:ext cx="2952720" cy="115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3142080" y="4797360"/>
              <a:ext cx="305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 not go beyond this point !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35640" y="522360"/>
            <a:ext cx="28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Inland Hu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985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land Hull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– Midsized accounts – flat renewals to slight increase. Large accounts – rate relief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6720" y="765000"/>
            <a:ext cx="16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Inland Hull Results</a:t>
            </a:r>
            <a:endParaRPr b="0" lang="en-US" sz="4400" spc="-1" strike="noStrike">
              <a:solidFill>
                <a:srgbClr val="5555f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16000" y="2133720"/>
          <a:ext cx="8418600" cy="244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133720"/>
                    <a:ext cx="841860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04840" y="528480"/>
            <a:ext cx="478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555f9"/>
                </a:solidFill>
                <a:latin typeface="Arial"/>
              </a:rPr>
              <a:t>Fishing Vesse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3612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ishing Vessels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– Price increase    5% – 10%. Mainly due to shrinkage in capacity, and poor loss records.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1080" y="620640"/>
            <a:ext cx="16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52000" y="62064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55f9"/>
                </a:solidFill>
                <a:latin typeface="Arial"/>
              </a:rPr>
              <a:t>Yac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504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9:35:30Z</dcterms:created>
  <dc:creator>EventCo</dc:creator>
  <dc:description/>
  <dc:language>en-US</dc:language>
  <cp:lastModifiedBy>Administrator</cp:lastModifiedBy>
  <dcterms:modified xsi:type="dcterms:W3CDTF">2004-09-11T08:13:00Z</dcterms:modified>
  <cp:revision>28</cp:revision>
  <dc:subject/>
  <dc:title>Speaker’s Name Speaker’s Topic 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4346873</vt:r8>
  </property>
  <property fmtid="{D5CDD505-2E9C-101B-9397-08002B2CF9AE}" pid="3" name="_AuthorEmail">
    <vt:lpwstr>ggutchigian@imu.com</vt:lpwstr>
  </property>
  <property fmtid="{D5CDD505-2E9C-101B-9397-08002B2CF9AE}" pid="4" name="_AuthorEmailDisplayName">
    <vt:lpwstr>Gutchigian, Gregory M.</vt:lpwstr>
  </property>
  <property fmtid="{D5CDD505-2E9C-101B-9397-08002B2CF9AE}" pid="5" name="_EmailSubject">
    <vt:lpwstr>Bob Gallagher IUMI 2004 PowerPoint presentation</vt:lpwstr>
  </property>
</Properties>
</file>